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3.png" ContentType="image/png"/>
  <Override PartName="/ppt/media/image12.wmf" ContentType="image/x-wmf"/>
  <Override PartName="/ppt/media/image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84760" y="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8683560"/>
            <a:ext cx="29718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Num" idx="2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7E67E5FD-B869-49F2-99E3-67707051AD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F5FBDC26-0E1A-4C56-91AD-D1DC56DF870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684360"/>
            <a:ext cx="4573440" cy="343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8D428D13-0C7C-40D9-8F5C-A83C8F90777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71440" y="596880"/>
            <a:ext cx="4529160" cy="339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F3EAB-1578-416E-9DA9-322241166AC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740C56-F4D7-444F-A1CC-7A291F13C8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C2B64-794F-4533-84A1-199412A2A8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99036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72000"/>
            <a:ext cx="264924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4DB23-77E7-47FE-9373-6509B96302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00D32-B844-4D0B-B166-9F6693E6812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D73444-1D68-4715-A040-1D1A0BFBCC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6FE42-5047-40F2-9BD3-B2C214B4E6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F6051-A9F5-46D6-8B22-85EC4D31F5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4960"/>
            <a:ext cx="822816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2BC9E-07AD-4205-984A-559C41D140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2C742-6331-44D4-AFDE-FF0C48DC4E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7200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530FF-3B8B-4D78-A26E-5D98AAAD56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990360"/>
            <a:ext cx="401508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72000"/>
            <a:ext cx="8228160" cy="24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6899B-D64E-43C7-8D50-9E4F80CE2B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4960"/>
            <a:ext cx="822816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990360"/>
            <a:ext cx="8228160" cy="51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E942DC90-E063-47AA-9CEE-E63FDBB1D34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IPS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MPE 142 – Operating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905120" y="1295280"/>
            <a:ext cx="1904760" cy="38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733400" y="795240"/>
            <a:ext cx="5677200" cy="526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42920" y="171360"/>
            <a:ext cx="8858160" cy="65152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05520" y="609480"/>
            <a:ext cx="4038480" cy="200988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4800600" y="762120"/>
            <a:ext cx="1905120" cy="380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mple Stack Exa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rcRect l="0" t="0" r="48225" b="0"/>
          <a:stretch/>
        </p:blipFill>
        <p:spPr>
          <a:xfrm>
            <a:off x="533520" y="228600"/>
            <a:ext cx="4201920" cy="64198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625720" y="2475000"/>
            <a:ext cx="282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ingle Step This Code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ile:  mips.stack.register.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hallenge Probl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3886200"/>
            <a:ext cx="6400800" cy="25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ry to implement in MIPS Assembly the following slide from L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INT:  Read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Section 3.1 Function Environment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000000"/>
                </a:solidFill>
                <a:latin typeface="Arial"/>
              </a:rPr>
              <a:t>and Linkage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and Look at the TREESORT.ASM example in the MIPS Assembly Tutor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so, use MIPS SDE Lite to view MIPS Assembly for the C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17360"/>
            <a:ext cx="822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xecution Stack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57600" y="4572000"/>
            <a:ext cx="5105520" cy="16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tack holds temporary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ermits recursive exec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rucial to modern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838080" y="914400"/>
            <a:ext cx="2286000" cy="5381640"/>
            <a:chOff x="838080" y="914400"/>
            <a:chExt cx="2286000" cy="5381640"/>
          </a:xfrm>
        </p:grpSpPr>
        <p:sp>
          <p:nvSpPr>
            <p:cNvPr id="110" name=""/>
            <p:cNvSpPr/>
            <p:nvPr/>
          </p:nvSpPr>
          <p:spPr>
            <a:xfrm>
              <a:off x="838080" y="914400"/>
              <a:ext cx="2286000" cy="53341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914400" y="1143000"/>
              <a:ext cx="2133720" cy="515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int tmp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if (tmp&lt;2)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‏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printf(tmp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B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C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  </a:t>
              </a: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2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main() {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A(1);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Courier New"/>
                </a:rPr>
                <a:t>}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72000" y="27432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C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921840" y="3048120"/>
            <a:ext cx="1564560" cy="703800"/>
            <a:chOff x="3921840" y="3048120"/>
            <a:chExt cx="1564560" cy="703800"/>
          </a:xfrm>
        </p:grpSpPr>
        <p:sp>
          <p:nvSpPr>
            <p:cNvPr id="114" name=""/>
            <p:cNvSpPr/>
            <p:nvPr/>
          </p:nvSpPr>
          <p:spPr>
            <a:xfrm>
              <a:off x="3921840" y="3048120"/>
              <a:ext cx="11196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Stack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00"/>
                  </a:solidFill>
                  <a:latin typeface="Comic Sans MS"/>
                </a:rPr>
                <a:t>Point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76920" y="3352680"/>
              <a:ext cx="609480" cy="180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6324480" y="3352680"/>
            <a:ext cx="1800" cy="533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390640" y="3862440"/>
            <a:ext cx="189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mic Sans MS"/>
              </a:rPr>
              <a:t>Stack Grow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472000" y="91440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A: tmp=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000000"/>
                </a:solidFill>
                <a:latin typeface="Courier New"/>
              </a:rPr>
              <a:t>ret=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2000" y="1523880"/>
            <a:ext cx="1752840" cy="60984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B: ret=A+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472000" y="2133720"/>
            <a:ext cx="1752840" cy="609480"/>
          </a:xfrm>
          <a:prstGeom prst="rect">
            <a:avLst/>
          </a:prstGeom>
          <a:solidFill>
            <a:srgbClr val="00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omic Sans MS"/>
              </a:rPr>
              <a:t>C: ret=b+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57200" y="274680"/>
            <a:ext cx="822960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gister Usage is by Con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457200" y="3962520"/>
            <a:ext cx="8153280" cy="2514600"/>
            <a:chOff x="457200" y="3962520"/>
            <a:chExt cx="8153280" cy="2514600"/>
          </a:xfrm>
        </p:grpSpPr>
        <p:graphicFrame>
          <p:nvGraphicFramePr>
            <p:cNvPr id="123" name=""/>
            <p:cNvGraphicFramePr/>
            <p:nvPr/>
          </p:nvGraphicFramePr>
          <p:xfrm>
            <a:off x="457200" y="3962520"/>
            <a:ext cx="8153280" cy="25146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2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" y="3962520"/>
                      <a:ext cx="8153280" cy="2514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5" name=""/>
            <p:cNvSpPr/>
            <p:nvPr/>
          </p:nvSpPr>
          <p:spPr>
            <a:xfrm>
              <a:off x="457200" y="3962520"/>
              <a:ext cx="8153280" cy="251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1447920" y="1219320"/>
            <a:ext cx="6267240" cy="280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IPS Instruction Set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533520"/>
          <a:ext cx="8153280" cy="6095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33520"/>
                    <a:ext cx="8153280" cy="60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ND L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84240"/>
            <a:ext cx="822960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IPS Simulator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rst Time Start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800600" y="5181480"/>
            <a:ext cx="380988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t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2438280"/>
            <a:ext cx="3686400" cy="1343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370512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tartup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.g. No Program Loaded Y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09520" y="152280"/>
            <a:ext cx="8858160" cy="641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fter Loading a MIPS Assembly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8440" y="-590400"/>
            <a:ext cx="8658360" cy="67626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66840" y="2209680"/>
            <a:ext cx="8381880" cy="1295640"/>
          </a:xfrm>
          <a:prstGeom prst="rect">
            <a:avLst/>
          </a:prstGeom>
          <a:noFill/>
          <a:ln w="381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66840" y="3657600"/>
            <a:ext cx="8381880" cy="1295280"/>
          </a:xfrm>
          <a:prstGeom prst="rect">
            <a:avLst/>
          </a:prstGeom>
          <a:noFill/>
          <a:ln w="38160">
            <a:solidFill>
              <a:srgbClr val="66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66840" y="762120"/>
            <a:ext cx="8381880" cy="1295280"/>
          </a:xfrm>
          <a:prstGeom prst="rect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15200" y="304920"/>
            <a:ext cx="1447920" cy="533160"/>
          </a:xfrm>
          <a:prstGeom prst="wedgeRoundRectCallout">
            <a:avLst>
              <a:gd name="adj1" fmla="val -77958"/>
              <a:gd name="adj2" fmla="val 150893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Regis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543800" y="1143000"/>
            <a:ext cx="1447920" cy="762120"/>
          </a:xfrm>
          <a:prstGeom prst="wedgeRoundRectCallout">
            <a:avLst>
              <a:gd name="adj1" fmla="val -77083"/>
              <a:gd name="adj2" fmla="val 92291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ode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391520" y="4191120"/>
            <a:ext cx="1447560" cy="761760"/>
          </a:xfrm>
          <a:prstGeom prst="wedgeRoundRectCallout">
            <a:avLst>
              <a:gd name="adj1" fmla="val -93750"/>
              <a:gd name="adj2" fmla="val -27708"/>
              <a:gd name="adj3" fmla="val 16667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ata Seg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38080" y="5867280"/>
            <a:ext cx="1905120" cy="457200"/>
          </a:xfrm>
          <a:prstGeom prst="ellipse">
            <a:avLst/>
          </a:prstGeom>
          <a:noFill/>
          <a:ln w="381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2362320"/>
            <a:ext cx="7238880" cy="22860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685800"/>
            <a:ext cx="2133720" cy="30492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" name=""/>
          <p:cNvGrpSpPr/>
          <p:nvPr/>
        </p:nvGrpSpPr>
        <p:grpSpPr>
          <a:xfrm>
            <a:off x="762120" y="623880"/>
            <a:ext cx="7543800" cy="4293720"/>
            <a:chOff x="762120" y="623880"/>
            <a:chExt cx="7543800" cy="4293720"/>
          </a:xfrm>
        </p:grpSpPr>
        <p:sp>
          <p:nvSpPr>
            <p:cNvPr id="71" name=""/>
            <p:cNvSpPr/>
            <p:nvPr/>
          </p:nvSpPr>
          <p:spPr>
            <a:xfrm>
              <a:off x="4735440" y="4552920"/>
              <a:ext cx="3557520" cy="3380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781200" y="641520"/>
              <a:ext cx="3706560" cy="6998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735440" y="2597040"/>
              <a:ext cx="3557520" cy="70020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2556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62120" y="623880"/>
              <a:ext cx="3881160" cy="4293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zero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 constant 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at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assembl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expression evaluation &amp;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v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unction resul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4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0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rgum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5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6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7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a3</a:t>
              </a:r>
              <a:r>
                <a:rPr b="1" lang="en-GB" sz="1700" spc="-1" strike="noStrike">
                  <a:solidFill>
                    <a:srgbClr val="1fd54f"/>
                  </a:solidFill>
                  <a:latin typeface="Arial"/>
                </a:rPr>
                <a:t>	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0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emporary: </a:t>
              </a:r>
              <a:r>
                <a:rPr b="1" lang="en-GB" sz="1700" spc="-1" strike="noStrike" u="sng">
                  <a:solidFill>
                    <a:srgbClr val="ff0000"/>
                  </a:solidFill>
                  <a:uFillTx/>
                  <a:latin typeface="Arial"/>
                </a:rPr>
                <a:t>caller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. . .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(callee can clobber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716360" y="623880"/>
              <a:ext cx="3589560" cy="4293720"/>
            </a:xfrm>
            <a:prstGeom prst="rect">
              <a:avLst/>
            </a:prstGeom>
            <a:noFill/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16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0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 u="sng">
                  <a:solidFill>
                    <a:srgbClr val="0000ff"/>
                  </a:solidFill>
                  <a:uFillTx/>
                  <a:latin typeface="Arial"/>
                </a:rPr>
                <a:t>callee save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. . . (caller can ignore)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23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ff"/>
                  </a:solidFill>
                  <a:latin typeface="Arial"/>
                </a:rPr>
                <a:t>s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4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8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 temporary (cont’d)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25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ff0000"/>
                  </a:solidFill>
                  <a:latin typeface="Arial"/>
                </a:rPr>
                <a:t>t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served for OS kernel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7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k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g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Pointer to global are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29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Stack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p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frame point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063"/>
                </a:spcBef>
                <a:tabLst>
                  <a:tab algn="l" pos="0"/>
                  <a:tab algn="l" pos="45720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515600"/>
                </a:tabLst>
              </a:pP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31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bbe0e3"/>
                  </a:solidFill>
                  <a:latin typeface="Arial"/>
                </a:rPr>
                <a:t>ra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Return Address (HW)</a:t>
              </a:r>
              <a:r>
                <a:rPr b="1" lang="en-GB" sz="1700" spc="-1" strike="noStrike">
                  <a:solidFill>
                    <a:srgbClr val="000000"/>
                  </a:solidFill>
                  <a:latin typeface="Arial"/>
                </a:rPr>
                <a:t>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81200" y="2235240"/>
              <a:ext cx="3259080" cy="1423800"/>
            </a:xfrm>
            <a:prstGeom prst="rect">
              <a:avLst/>
            </a:prstGeom>
            <a:noFill/>
            <a:ln w="25560">
              <a:solidFill>
                <a:srgbClr val="1fd54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81200" y="3755880"/>
              <a:ext cx="3557520" cy="11350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735440" y="641520"/>
              <a:ext cx="3557520" cy="1062000"/>
            </a:xfrm>
            <a:prstGeom prst="rect">
              <a:avLst/>
            </a:pr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35440" y="1800360"/>
              <a:ext cx="3184560" cy="69984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1200" y="1438200"/>
              <a:ext cx="3557520" cy="7002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735440" y="3394080"/>
              <a:ext cx="3333960" cy="1062000"/>
            </a:xfrm>
            <a:prstGeom prst="rect">
              <a:avLst/>
            </a:prstGeom>
            <a:noFill/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452600" y="152280"/>
            <a:ext cx="61880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3360" rIns="63360" tIns="25560" bIns="255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IPS: Software conventions fo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51055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efore calling procedur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caller-saves re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v0, v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  <a:ea typeface="Arial"/>
              </a:rPr>
              <a:t>Save 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48320" y="5105520"/>
            <a:ext cx="388620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fter return, ass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allee-saves reg 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p, sp, fp OK (restored!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7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ther things trash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9680" y="4267080"/>
            <a:ext cx="622440" cy="167652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29600" y="1066680"/>
            <a:ext cx="622440" cy="449604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8120" y="2082960"/>
            <a:ext cx="1752480" cy="3022560"/>
          </a:xfrm>
          <a:prstGeom prst="pie">
            <a:avLst/>
          </a:pr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5428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2600" y="632448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5715000"/>
            <a:ext cx="1295280" cy="9907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871440" y="5751360"/>
            <a:ext cx="805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A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B()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 fill="hold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 fill="hold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ry these 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oad them (source in zip file) and   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single step execution in the si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95600" y="1538280"/>
            <a:ext cx="5752800" cy="3781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aul Nguyen</cp:lastModifiedBy>
  <cp:revision>0</cp:revision>
  <dc:subject/>
  <dc:title>PowerPoint Presentation</dc:title>
</cp:coreProperties>
</file>