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2711"/>
        <c:axId val="53921085"/>
      </c:barChart>
      <c:catAx>
        <c:axId val="1222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21085"/>
        <c:crosses val="autoZero"/>
        <c:auto val="1"/>
        <c:lblAlgn val="ctr"/>
        <c:lblOffset val="100"/>
        <c:noMultiLvlLbl val="0"/>
      </c:catAx>
      <c:valAx>
        <c:axId val="53921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2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277-E85B-432B-A9A9-4B451B9A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9AE-6050-4CBD-8217-4530313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5A2-B50F-4F3F-B13A-56E83E61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530-6331-47D3-8833-DC1DE8BF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6B-1585-4232-8ADC-92C703CD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489-1CE1-4358-A33C-7A10441E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32B-591B-4DCE-A07B-B3A4CDB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AAC-91AE-42D1-99C2-DBAA46C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0E5-15D2-4B20-AE73-BB19BD5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889-F40C-441D-B2AB-0F6B7EA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5F2-7C6F-4557-862A-F46B774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646-0275-4090-BAF8-1D52613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3C0CC-6A6A-4097-BA0D-93608AD1F5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