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1659"/>
        <c:axId val="39461241"/>
      </c:barChart>
      <c:catAx>
        <c:axId val="4291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61241"/>
        <c:crosses val="autoZero"/>
        <c:auto val="1"/>
        <c:lblAlgn val="ctr"/>
        <c:lblOffset val="100"/>
        <c:noMultiLvlLbl val="0"/>
      </c:catAx>
      <c:valAx>
        <c:axId val="39461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1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09E-C93D-45AB-81F9-5DD16914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206-E284-4F5C-8265-D7DBC03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027-629B-482F-AAE2-0E8CC64E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C16-F6C7-48A9-ABB1-2C644C43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818-5A2C-4A80-B486-692598D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8DC-E08A-48B0-B18C-79FE24A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C4E-8439-4C3B-AD54-776CA17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E6A-C459-4B89-B7D5-F2483408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102-9FBC-46E8-AB74-7869F35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F3C-876B-4400-9240-A5B79423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784-ECC7-46BC-B9A8-29A3928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2F1-6BF1-4F5A-A859-A37B6C0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D0DA2-63E9-47DC-A8BB-ACD13D9211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