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67975"/>
        <c:axId val="35749340"/>
      </c:barChart>
      <c:catAx>
        <c:axId val="25867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49340"/>
        <c:crosses val="autoZero"/>
        <c:auto val="1"/>
        <c:lblAlgn val="ctr"/>
        <c:lblOffset val="100"/>
        <c:noMultiLvlLbl val="0"/>
      </c:catAx>
      <c:valAx>
        <c:axId val="35749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67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4AD-55F2-41DA-94A6-D73937D8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A2F-7AD1-4D86-BFFF-2FCFB717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896-DC2D-4CDB-B06C-B7818F82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657-5F0B-4B06-A064-07243AF3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D01-CC77-4D57-9ADB-DD11FCE3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DBB-79D0-4271-B476-B72F5EFD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916-95FC-4D39-850E-2088B9C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2DB-0E6B-4378-9724-950BB1A8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55D-5284-4E28-98E1-54D09780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C20-A5DF-45F0-AD35-0DCE3BC7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154-3D03-4EA0-8C62-9FC9F1C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B8C-2CC6-49C5-B146-8DA19276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2153B-5FAF-40FD-B3A4-E859CB729B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