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36694"/>
        <c:axId val="50869704"/>
      </c:barChart>
      <c:catAx>
        <c:axId val="264366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69704"/>
        <c:crosses val="autoZero"/>
        <c:auto val="1"/>
        <c:lblAlgn val="ctr"/>
        <c:lblOffset val="100"/>
        <c:noMultiLvlLbl val="0"/>
      </c:catAx>
      <c:valAx>
        <c:axId val="508697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366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FE4A-08B6-4827-A8DA-42079D0F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0901-A98B-4272-82DF-1CFF2DF0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E689-A580-44E1-AF13-6E630EA5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B3C7-5339-4230-A146-0692A84F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375D-CD6C-4988-87B4-5AF4C212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8EF-423F-4CA9-A651-151395FC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DAA-58BF-4774-88BB-314EF536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C9D-99CD-4564-AB67-CAC8FF09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AF61-2932-4B55-A718-FD30F5DF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6EF-877A-437A-BEAD-0A3605EF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092-42B1-48B4-8F66-958C9312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36E-5B42-4746-BFD4-B78C378A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59BEA-F87D-4581-8F02-24E55015FD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