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87247"/>
        <c:axId val="89402115"/>
      </c:barChart>
      <c:catAx>
        <c:axId val="35087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02115"/>
        <c:crosses val="autoZero"/>
        <c:auto val="1"/>
        <c:lblAlgn val="ctr"/>
        <c:lblOffset val="100"/>
        <c:noMultiLvlLbl val="0"/>
      </c:catAx>
      <c:valAx>
        <c:axId val="89402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87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78D-0603-4EDC-BFEC-46272337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388-15DA-426C-A7AC-F864EBB1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D25-5349-4E5D-8D01-2672787F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393-974B-4D94-AF9C-B311A648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079-815E-4243-A387-8EC3814A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AC7-829F-496C-80ED-E608FD1B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6FF-F008-4431-8771-0E713CC7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E83-AA75-47CD-9FA9-16D72170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099-0767-4BB3-BB8D-775755C5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8C6-350E-455C-812C-2A636D0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F93-8AB4-4967-958E-2CC40C4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6D5-A8E4-4367-B11C-417C507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7A15A-FD3A-40D8-91D5-6416DB1F3F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