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79496"/>
        <c:axId val="88580324"/>
      </c:barChart>
      <c:catAx>
        <c:axId val="72279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80324"/>
        <c:crosses val="autoZero"/>
        <c:auto val="1"/>
        <c:lblAlgn val="ctr"/>
        <c:lblOffset val="100"/>
        <c:noMultiLvlLbl val="0"/>
      </c:catAx>
      <c:valAx>
        <c:axId val="88580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79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D70-AF72-4B9F-A25C-2D3C74FE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313-74E7-4571-8774-8FB42F0A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7D4-17F0-44E9-BAD8-1F5C21B6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645-C8C4-4326-973E-513595D8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9BB-38F3-463E-9CC6-72A1378A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F39-27B6-4DAC-996B-5E3062F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4B7-4D5F-4285-9FA2-E983EFA1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8BA-F98D-4C36-ACE2-C0FED055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92C-C12B-4727-9691-E8DAD64C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E4A-54FC-4A70-8974-61DC2F4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879-ADFF-46C9-96AB-4CB29D9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BFC-A74B-41B4-A45F-4D8984F6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899B5-4124-48A7-8A5E-4C21ED5110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