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37397"/>
        <c:axId val="2544365"/>
      </c:barChart>
      <c:catAx>
        <c:axId val="66737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4365"/>
        <c:crosses val="autoZero"/>
        <c:auto val="1"/>
        <c:lblAlgn val="ctr"/>
        <c:lblOffset val="100"/>
        <c:noMultiLvlLbl val="0"/>
      </c:catAx>
      <c:valAx>
        <c:axId val="25443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37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181-C1CD-4E45-8744-F771D05C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EDF2-77D0-48C4-86E9-EDA06E6E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3C45-5BAE-43D5-BE81-03EBA9DD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A9CC-4729-452F-B11D-6A15A0D0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A3F2-5AF3-4061-B051-77D927F8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C1EE-ECBE-4CE4-B87C-C29A1124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A83F-9C67-4EAB-9ECA-B02B4F8B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329-CD9B-42D2-AEA9-B733D91D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38FD-C2A8-4D85-8AC3-747DBFCF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9C7-6A76-43F9-8CC2-66326568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279-35CF-4819-BF33-B67B5970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A92-AD12-454A-AACF-ECC6189F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58870-8A57-4265-94FA-50DC449CCC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