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76090"/>
        <c:axId val="53827765"/>
      </c:barChart>
      <c:catAx>
        <c:axId val="413760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27765"/>
        <c:crosses val="autoZero"/>
        <c:auto val="1"/>
        <c:lblAlgn val="ctr"/>
        <c:lblOffset val="100"/>
        <c:noMultiLvlLbl val="0"/>
      </c:catAx>
      <c:valAx>
        <c:axId val="538277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760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1019-79D3-41B9-8928-91F498C7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ACED-3C52-426A-8FC1-D0860825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EA4-D01D-4037-8E8F-4379776D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C02-9D05-4128-B622-5B5C0B89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61B2-6B94-43B4-ABA8-61D0C862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8BA-0E2C-431C-92E2-80C59582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CEC-9A21-4DE1-B206-FFD81488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24E-C994-4C30-9086-0FC5448E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F7E-C158-46DF-8BEF-15E9C542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E73-5B45-49C4-911F-EE9449E2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858-5193-4363-8D4B-F2CFB945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198-B7FC-4B4C-9EB9-74D156DB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8343C-24A1-4BC8-940F-B8F3191DCC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