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032903"/>
        <c:axId val="1807462"/>
      </c:barChart>
      <c:catAx>
        <c:axId val="110329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7462"/>
        <c:crosses val="autoZero"/>
        <c:auto val="1"/>
        <c:lblAlgn val="ctr"/>
        <c:lblOffset val="100"/>
        <c:noMultiLvlLbl val="0"/>
      </c:catAx>
      <c:valAx>
        <c:axId val="18074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329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5CD5-1785-4A32-9AA6-64FA7854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CDDE-C7F5-4B2D-A657-D45E97CF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EA70-4886-479C-B083-74F90CE1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69B7-7351-4D86-9A72-F6FCB7E2C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F367-1799-4EFD-8010-1F4D6BFB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549D-4C1A-467F-BA34-31F8C184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6EF9-104A-4299-A26B-D6BF530E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6A82-A395-4A0A-BA63-F5A78738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A97D-65DA-4317-AB0C-7F5EF668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99C2-51A3-4DCF-B3FD-C7CB655B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3CC0-843A-4801-99B8-FE6B7A2C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33AB-96CA-41D0-90F0-50261C35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80405-D634-4422-A251-2E667B2188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