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46538"/>
        <c:axId val="58618244"/>
      </c:barChart>
      <c:catAx>
        <c:axId val="69046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18244"/>
        <c:crosses val="autoZero"/>
        <c:auto val="1"/>
        <c:lblAlgn val="ctr"/>
        <c:lblOffset val="100"/>
        <c:noMultiLvlLbl val="0"/>
      </c:catAx>
      <c:valAx>
        <c:axId val="58618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46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39E-AEAA-4AF3-846B-A632F695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2F4-D474-4C90-A061-8AFC8C66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662-027B-410B-9355-F2FC1151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A73-BCE4-405F-AD64-ADB780D4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642-E6DB-4DEA-AE5F-454BEC4D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682-1E26-4E84-B9E1-67892C0D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8AA-F185-4362-B740-A5C0945D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F0F-1B99-450E-B959-12E770E2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9C0-4CE6-4051-9D83-ED6F8E41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E0A-0FC8-445B-A2D2-1DE558AB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B16-AA6F-4CDC-A497-73D319A4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37B-B559-4550-A0E9-468D7BD4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A091B-46BB-4B71-A009-AF7AD1472B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