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04507"/>
        <c:axId val="15247540"/>
      </c:barChart>
      <c:catAx>
        <c:axId val="96704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47540"/>
        <c:crosses val="autoZero"/>
        <c:auto val="1"/>
        <c:lblAlgn val="ctr"/>
        <c:lblOffset val="100"/>
        <c:noMultiLvlLbl val="0"/>
      </c:catAx>
      <c:valAx>
        <c:axId val="15247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04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B1A-99FF-49AB-8E1B-7507B417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FB1-52B1-410E-BD38-65FFC52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2BF-F9F4-461F-8E94-371C40A1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FAB-5504-44A7-9CD5-E14C6521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FD3-286F-492D-9925-AA475A3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057-B42D-45E7-ACCF-41B21F6F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28D-1907-45B9-B963-DAA2D89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E35-B28B-4F35-8585-16784F8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9F6-D18A-48DE-BA69-0497717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706-0497-47B6-A8CD-093469B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4DF-761D-4305-9A72-10AC8469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32F-9454-42B1-BD83-36A257E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76B4E-11A0-4603-A7DA-45E5F9B25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