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79026"/>
        <c:axId val="11043570"/>
      </c:barChart>
      <c:catAx>
        <c:axId val="76179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43570"/>
        <c:crosses val="autoZero"/>
        <c:auto val="1"/>
        <c:lblAlgn val="ctr"/>
        <c:lblOffset val="100"/>
        <c:noMultiLvlLbl val="0"/>
      </c:catAx>
      <c:valAx>
        <c:axId val="11043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79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A4C-F83F-4518-A2B9-A9D0EA99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7E1-2949-468F-A398-75D52E98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736-4DAF-466F-9DFF-7443631B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D15-5C33-42C2-B9BA-4E5395E5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0686-FB30-4401-B79B-EC148080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512-E965-45DA-BBE1-BB62A4BB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049-AE9A-42FD-9853-DAC48514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548-ADAF-446A-B791-BBB19B29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AFE-1187-4319-A6E2-509F2FD5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9B6-43BE-4856-847F-218C9FE4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142-A931-4C65-9F61-CEE289DA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578-DC79-4E90-AAED-84002228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E0515-5F55-4EA6-BC40-ABAE10B69B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