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8336"/>
        <c:axId val="83307222"/>
      </c:barChart>
      <c:catAx>
        <c:axId val="3338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07222"/>
        <c:crosses val="autoZero"/>
        <c:auto val="1"/>
        <c:lblAlgn val="ctr"/>
        <c:lblOffset val="100"/>
        <c:noMultiLvlLbl val="0"/>
      </c:catAx>
      <c:valAx>
        <c:axId val="83307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8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D8D-406F-40D3-8E03-8FAB64C9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4CC-4E97-473A-83BC-394D723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066-0CF5-468A-80DC-9003B499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F83-B966-4D75-84C6-0472C218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B93-5CE3-4A0D-9928-B775E1B0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C29-9127-4CAC-9646-2230FF43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C7B-452E-4296-8D57-B5E7AC1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7B3-1620-4A1E-90F2-DCE79A7C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3BB-E164-4689-A4A7-521184D3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200-5FD2-48FD-BF1F-CEDA0DF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E5E-C10A-4EF6-B083-8CC7F79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352-51D8-4D88-A906-EE61EDEB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9636D-4AF2-434A-A32C-D6B74C7A1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