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986893"/>
        <c:axId val="47888578"/>
      </c:barChart>
      <c:catAx>
        <c:axId val="269868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888578"/>
        <c:crosses val="autoZero"/>
        <c:auto val="1"/>
        <c:lblAlgn val="ctr"/>
        <c:lblOffset val="100"/>
        <c:noMultiLvlLbl val="0"/>
      </c:catAx>
      <c:valAx>
        <c:axId val="478885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9868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060F-5504-445D-A86A-FA171460C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2194-FE19-4D92-8370-F345814BB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45DD-EE8F-4A78-81BB-17CF759CB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3C97-CB79-439D-876E-15AA2E66D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6C1B-0162-456C-9DEE-6788AA81E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D65D-41EF-4619-8B54-581884B4B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99BB-B43E-40D5-8602-C8B8D5675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1382-1573-498B-818B-C666F74DA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F3C0-07D6-4A3B-BD02-3A452D273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1233-AA69-4AEA-90E2-6B642D260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7528-117C-46F5-A374-3B78D9554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09DF-9375-436B-9A2A-B38642E0F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6F6ECE-2F2F-4C4F-9876-F871722CBEC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