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24799"/>
        <c:axId val="15127997"/>
      </c:barChart>
      <c:catAx>
        <c:axId val="93224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27997"/>
        <c:crosses val="autoZero"/>
        <c:auto val="1"/>
        <c:lblAlgn val="ctr"/>
        <c:lblOffset val="100"/>
        <c:noMultiLvlLbl val="0"/>
      </c:catAx>
      <c:valAx>
        <c:axId val="15127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24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815-BBF9-4BF8-957C-39CAF899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138-F7C2-414B-817A-DCD8119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F08-0E9D-4C50-8E5E-5C78EF3C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B27-1B62-457D-BE78-2DAC462A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05B-96DF-4822-8848-CE5C2C55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3EF-EE33-4EA0-B266-1032E80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944-130F-4A00-970F-86C5DD8C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BCC-3D1D-407D-B823-B05727F4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93B-925F-449A-9199-13F452B2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687-C06E-416E-9FA0-A02A2526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B57-3569-449F-B57D-6A81A70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FDE-1EE8-4021-82A3-F05BFBB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81A5A-6F63-4388-AF15-F33D27400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