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64809"/>
        <c:axId val="22485412"/>
      </c:barChart>
      <c:catAx>
        <c:axId val="66764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85412"/>
        <c:crosses val="autoZero"/>
        <c:auto val="1"/>
        <c:lblAlgn val="ctr"/>
        <c:lblOffset val="100"/>
        <c:noMultiLvlLbl val="0"/>
      </c:catAx>
      <c:valAx>
        <c:axId val="22485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64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5A4-A9F2-4807-ABE4-2F4684FF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2D1-4BD4-4AC1-A2B2-556E82F1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60C-BD65-4A49-AC70-882D143F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441-40C7-4412-8B1A-BCC9AF61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695-3D69-4983-9D3E-58B0B8E5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C94-35A9-4976-BD06-1DBEE329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284-0042-40CE-9F01-80A6092A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9E7-C458-4FB9-970E-CC73955A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C9A-44FC-4295-A917-7202822C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4A2-CB8B-4D0F-9ECA-811B6B4D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547-09F2-4CCA-8132-63A37889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371-7533-4143-98EC-47DD82C0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25077-A022-4765-9A7A-FA79170EA8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