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794501"/>
        <c:axId val="59604558"/>
      </c:barChart>
      <c:catAx>
        <c:axId val="42794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04558"/>
        <c:crosses val="autoZero"/>
        <c:auto val="1"/>
        <c:lblAlgn val="ctr"/>
        <c:lblOffset val="100"/>
        <c:noMultiLvlLbl val="0"/>
      </c:catAx>
      <c:valAx>
        <c:axId val="59604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94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46CA-E360-44E9-91FC-5874072B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E492-A163-4FB0-9424-163BDEA2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B269-4340-4286-A821-BE0030D6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58C1-7261-45BF-8D61-7A305367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696A-5932-44D4-A2F8-122FD981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3EE-6F4B-4B88-B14F-DBB40CF5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2639-4D50-4548-A254-0C9B9592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7C10-ACA9-40CD-A77E-1A545737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6B17-FFC8-4465-807B-3F9F9DE8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8352-A6C2-441C-A01D-F880383B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71B3-D103-41E4-8348-43F9F6D6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C39-F53E-45C1-A781-5845DA90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4F1E0-D245-428F-963C-1CB66F08BA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