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19154"/>
        <c:axId val="58300748"/>
      </c:barChart>
      <c:catAx>
        <c:axId val="31719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00748"/>
        <c:crosses val="autoZero"/>
        <c:auto val="1"/>
        <c:lblAlgn val="ctr"/>
        <c:lblOffset val="100"/>
        <c:noMultiLvlLbl val="0"/>
      </c:catAx>
      <c:valAx>
        <c:axId val="58300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19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CFA-2D62-489E-A5A6-BB23953F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23A-08FD-4CF1-A084-3DEB5A51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BEF-1144-42D8-8500-847A4432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81D-F1AE-40E4-94A1-7F4DABD4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7AC-BF07-46DC-872C-F3C0392C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99F-BE68-407D-B081-6BB1B854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7D9F-2618-4A83-A38C-D11BBBBB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0FA-40DA-4207-8FB4-07661B5E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4D3-8801-472C-B7E3-BE8EB986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F77-F329-4561-BD73-6D5D59B2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19E-4EDF-4B10-9EDB-FE3E0077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DA3-1EB0-4758-97C3-5A562073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D87C0-DA67-4474-B488-DCD86306BB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