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1303"/>
        <c:axId val="76540998"/>
      </c:barChart>
      <c:catAx>
        <c:axId val="8511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40998"/>
        <c:crosses val="autoZero"/>
        <c:auto val="1"/>
        <c:lblAlgn val="ctr"/>
        <c:lblOffset val="100"/>
        <c:noMultiLvlLbl val="0"/>
      </c:catAx>
      <c:valAx>
        <c:axId val="76540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1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DED-5CC6-4A2C-8895-2FE77FB9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5F3-BFCC-475E-B200-D0F17347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B4F-9044-4E5B-832A-A255E972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5CE-B12A-4306-A24E-C6981C11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F9E-A771-49DF-AB3A-EF1789FB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353-5079-4B6F-8290-A6B9498F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B89-6548-4F69-BEC3-0C395865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E0D-A4DD-472B-BB98-6E7C65D7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BED-4C7E-45F8-91B7-7B23CA61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A09-49EC-4EAA-BAC9-D771A66D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1AF-2C9B-420E-B671-702405A3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9DE-A212-42F6-A125-0EF39FEA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DDAE3-3F2B-4C93-A931-0BF95E2F3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