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42904"/>
        <c:axId val="75761399"/>
      </c:barChart>
      <c:catAx>
        <c:axId val="855429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61399"/>
        <c:crosses val="autoZero"/>
        <c:auto val="1"/>
        <c:lblAlgn val="ctr"/>
        <c:lblOffset val="100"/>
        <c:noMultiLvlLbl val="0"/>
      </c:catAx>
      <c:valAx>
        <c:axId val="75761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429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1BB-C250-4285-98B3-A3C1AAEC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FCE-E95B-46C7-B683-92834C01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A7A-5A69-4232-91E7-A3B866FD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2D2-DA2F-4788-B80C-4829C620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7E0-9F14-4237-AD4F-2AA686A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FE5-F4D5-4F48-9131-F94E0FB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4A7-7034-4C9B-848D-318AFC7B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C15-BAE5-436E-8BE9-16C7857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055-B433-4DCB-9A76-94AE9AFC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980-C712-44DB-BC72-6E274603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DF9-B019-429F-93F5-A60F922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943-2989-4B28-8AB5-F5014A72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4EB0C-F87D-4258-A9C8-625E64BEB9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