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04985"/>
        <c:axId val="76299391"/>
      </c:barChart>
      <c:catAx>
        <c:axId val="84704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99391"/>
        <c:crosses val="autoZero"/>
        <c:auto val="1"/>
        <c:lblAlgn val="ctr"/>
        <c:lblOffset val="100"/>
        <c:noMultiLvlLbl val="0"/>
      </c:catAx>
      <c:valAx>
        <c:axId val="76299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04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F98-529F-413B-8FD5-A27894E4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71E-80B6-4C2C-9A30-19C00C86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622-F0D4-4965-9B3C-941D3997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444-5838-446B-B0DB-89C6087B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93D-45C2-4A73-998A-8AC4061C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331-DDAF-4D45-9A5E-1A9FC7E9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54E-A037-4C34-870E-F86FAABC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684-C092-47DB-BE60-216F776D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916-1CF7-4B8F-B340-2FD6CEE1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9FB-8468-4DB9-821B-BCBF965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E3F-0AE7-42E9-9213-13E83FA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27B-6A06-435E-9EA8-D4387A11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CA7BC-70A9-45BE-812C-CB13CDF792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