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610073"/>
        <c:axId val="93864255"/>
      </c:barChart>
      <c:catAx>
        <c:axId val="796100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864255"/>
        <c:crosses val="autoZero"/>
        <c:auto val="1"/>
        <c:lblAlgn val="ctr"/>
        <c:lblOffset val="100"/>
        <c:noMultiLvlLbl val="0"/>
      </c:catAx>
      <c:valAx>
        <c:axId val="938642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6100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4D2D-4606-4ACB-A1F7-D7C273ED6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CBB9-F304-4040-A2DF-AEC47549C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50CF-E7F6-4B86-B63D-81F8818EB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C143-CE34-46D1-875F-5674C03BE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4CFF-A7EF-460B-BD43-2D6368672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65AA-5793-4D36-AAD2-19A36F6E5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2898-7A72-498B-8AB7-7805727A9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7B5B-43BE-43D1-A147-B3AE2CDBC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E6A2-D2B6-458B-8127-1E9524C03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3A8D-9168-4CB7-8830-27F451099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0DD8-750C-44CF-9C7E-83C1351B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9537-5B1F-4998-BFD1-0AEB596B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CE78E7-26BC-476A-B48E-68DE14EF5BB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