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39107"/>
        <c:axId val="25168595"/>
      </c:barChart>
      <c:catAx>
        <c:axId val="21139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68595"/>
        <c:crosses val="autoZero"/>
        <c:auto val="1"/>
        <c:lblAlgn val="ctr"/>
        <c:lblOffset val="100"/>
        <c:noMultiLvlLbl val="0"/>
      </c:catAx>
      <c:valAx>
        <c:axId val="25168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39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413-4A73-43D2-8DF9-11C75F7F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394-4CEE-43A7-B1E8-F39CFA6D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A71-4D23-420D-876C-F88C03F6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A87-5973-4F19-A7A4-ACDEA6FD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DEB-3045-46C2-A78C-4F88628C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45F-ED8E-4EC8-B53E-43B00307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AD39-38E2-4B75-8111-B64A1636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7E4-3F3F-4E6E-B58F-CC273153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6B9A-4FB5-4344-8271-E6692CD0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423-5A24-48C4-BFE7-3D23CFFE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ECFF-E590-4FA7-A3B5-7EF8A52B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1CC-F90B-4EB1-8423-C3C1C300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6150F-93CB-4B0C-A114-5397678CF1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