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452271"/>
        <c:axId val="90011457"/>
      </c:barChart>
      <c:catAx>
        <c:axId val="154522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11457"/>
        <c:crosses val="autoZero"/>
        <c:auto val="1"/>
        <c:lblAlgn val="ctr"/>
        <c:lblOffset val="100"/>
        <c:noMultiLvlLbl val="0"/>
      </c:catAx>
      <c:valAx>
        <c:axId val="90011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522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6BD2-A4BF-4730-93EA-EFF8798F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A9BD-07E9-4A93-A373-95731C28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859-B271-488C-984F-5B5C7F27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8051-FAB2-418C-BA34-1F8F3F0F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7323-ADD4-4AC9-B38D-EB5F43D7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5EFE-F23C-4232-AFE2-FA31C1DD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1D9-3AE1-48DC-B7A9-7057EE78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1231-3CCC-4F43-B5CD-60E824E8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6F8A-B04C-4C99-AA1A-140D7A6A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1A0-4080-4AB4-B9BC-D5ACDAE2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0B11-1910-42A0-8D1A-72785809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B99F-1AAD-4F1D-A8C9-B9897194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726DC-EE77-4E8F-9D59-B1DCEF0A07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