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911001"/>
        <c:axId val="14887775"/>
      </c:barChart>
      <c:catAx>
        <c:axId val="649110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87775"/>
        <c:crosses val="autoZero"/>
        <c:auto val="1"/>
        <c:lblAlgn val="ctr"/>
        <c:lblOffset val="100"/>
        <c:noMultiLvlLbl val="0"/>
      </c:catAx>
      <c:valAx>
        <c:axId val="148877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9110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39E8-CF0E-4080-A25B-597657E83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B9F9-0D4E-4963-B94C-DFCC379B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2D7B-316F-4D85-B64E-74B970765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39B9-A50B-40C6-BDDA-FA634CD15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B385-D347-48F3-BFF0-0877CD6A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168C-4D44-4386-89B0-808B631D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7A81-373E-46A0-B8E3-80455006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3767-FA36-4BB0-8227-53BE6ACD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F971-7E8E-4810-8E20-D442FF18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2EBA-9C83-464C-BDC2-58BE8E07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4843-89E1-4A40-9721-F8A08C9D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4C5B-48F1-4B13-AED9-52F273AC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30A74-12D0-4EB7-B90E-68982E8823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