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61660"/>
        <c:axId val="20043567"/>
      </c:barChart>
      <c:catAx>
        <c:axId val="63261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3567"/>
        <c:crosses val="autoZero"/>
        <c:auto val="1"/>
        <c:lblAlgn val="ctr"/>
        <c:lblOffset val="100"/>
        <c:noMultiLvlLbl val="0"/>
      </c:catAx>
      <c:valAx>
        <c:axId val="20043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1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98F-A506-4494-833B-A850B192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B8F-0D50-4170-BC5B-17583CC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150-43F1-47F1-AEE3-19E0B12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D03-2A1A-4AB2-B018-D12497EC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C69-6C87-46A3-8DD8-9812EBB2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222-4D4B-428B-95FE-772357C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CB8-918C-42EC-A6D6-8AC532B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BA7-0E98-4A1D-B71D-2D4E4D9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554-CAFD-410D-9E3B-AFC65315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887-EBED-44CF-83CC-1E7376E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4EC-454C-4686-B203-AF65393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984-7221-4531-8F21-23C252F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64E96-DE51-4F28-9E3F-D3A90E3B5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