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84716"/>
        <c:axId val="94027382"/>
      </c:barChart>
      <c:catAx>
        <c:axId val="89984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27382"/>
        <c:crosses val="autoZero"/>
        <c:auto val="1"/>
        <c:lblAlgn val="ctr"/>
        <c:lblOffset val="100"/>
        <c:noMultiLvlLbl val="0"/>
      </c:catAx>
      <c:valAx>
        <c:axId val="94027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4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DC9-F0C9-415D-93EA-CE8A239F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06E-4798-4D06-B3B2-30C6196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744-88EE-4A95-9683-299227CC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95D-9516-4763-8697-E5D17900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E57-FD3E-4781-9202-7B1134E6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F4B-7898-47BC-AA41-B0123286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488-C21B-495B-89A1-FBECF999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01E-FA83-4A43-A0DB-8FFDFE9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A08-4D08-4EBE-AF9F-C3AB7ED5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961-5E56-4B06-9383-2146192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BBB-6E3C-4B64-A31A-2B58F6B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9B9-2D16-4E78-B32D-063A802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788AA-88CD-4452-A002-AF6836515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