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22978"/>
        <c:axId val="19229530"/>
      </c:barChart>
      <c:catAx>
        <c:axId val="6522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9530"/>
        <c:crosses val="autoZero"/>
        <c:auto val="1"/>
        <c:lblAlgn val="ctr"/>
        <c:lblOffset val="100"/>
        <c:noMultiLvlLbl val="0"/>
      </c:catAx>
      <c:valAx>
        <c:axId val="19229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2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2B2-353A-4804-83C3-0332CAA0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137-D4A7-4E56-9DED-A6FBA9D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F65-3DC9-4D82-AEDA-7D0DDDB0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22C-F173-4E7E-B2FC-D3A053A8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79D-74EE-4181-8934-AD7B7C4E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18B-B234-47B7-B770-EEF6D42F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53E-6C8C-4491-9FB4-38336BC1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84F-7761-4B92-9967-53C862B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BAA-BBB6-4931-9966-B879BE3B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A18-6145-49CE-A452-2001E58D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8D6-5625-459C-97B7-AC511CA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60E-8C0F-4947-AE48-2A910F0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3D1C7-6DFE-4186-B6A0-2A97BD2610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