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28192"/>
        <c:axId val="37314939"/>
      </c:barChart>
      <c:catAx>
        <c:axId val="52428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14939"/>
        <c:crosses val="autoZero"/>
        <c:auto val="1"/>
        <c:lblAlgn val="ctr"/>
        <c:lblOffset val="100"/>
        <c:noMultiLvlLbl val="0"/>
      </c:catAx>
      <c:valAx>
        <c:axId val="37314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28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F55-1BE8-46EB-AF46-84354D58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AA7-C799-4C88-A418-E74C6ACF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463-59C8-44B6-B5EA-88D47F15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236-A910-4612-9E67-CD5D8C0C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A76-0167-423E-93D5-C1A2BDE4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9CE-F4A7-46E1-93EB-90368CB1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F3B-ABC2-407A-9297-B0E31FF8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A45-81A2-4E88-BF4A-8F86E99F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046-098F-4E99-92AC-52F41AB5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00E-FFE6-4F14-8276-7E5F2CF6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80D-5287-4A86-B9C6-5A384A49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491-0847-4987-A1E4-2CA1588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9AE68-09FE-4784-95AD-D212373AC1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