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84976"/>
        <c:axId val="58580382"/>
      </c:barChart>
      <c:catAx>
        <c:axId val="70784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80382"/>
        <c:crosses val="autoZero"/>
        <c:auto val="1"/>
        <c:lblAlgn val="ctr"/>
        <c:lblOffset val="100"/>
        <c:noMultiLvlLbl val="0"/>
      </c:catAx>
      <c:valAx>
        <c:axId val="58580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84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AB2-6BA7-4D53-BC10-01A3C2A6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440-E7BA-479A-8B72-3DF2BA11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574-976F-42B1-B08D-A2A80D0F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1AD-3A14-4950-A3DA-F5462D7E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AE6-BAC4-454D-8033-29653E51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F5D-4172-4EF3-9A24-B0FFF36D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85A-B0B0-43DE-A742-E0D9C263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867-C751-4DC6-A342-82CDAC70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66E-CBF2-4B6E-939A-ABD4CCAA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C2E-CB03-4C01-8D86-E0B3E011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9EA-E3E1-4990-AF55-E41638B6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637-0C43-4943-9053-1E560F8C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6C4B8-B739-4043-90A9-02406A5F64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