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22706"/>
        <c:axId val="78846260"/>
      </c:barChart>
      <c:catAx>
        <c:axId val="18922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6260"/>
        <c:crosses val="autoZero"/>
        <c:auto val="1"/>
        <c:lblAlgn val="ctr"/>
        <c:lblOffset val="100"/>
        <c:noMultiLvlLbl val="0"/>
      </c:catAx>
      <c:valAx>
        <c:axId val="78846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2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E38-E4FC-499B-A7C0-13093952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99F-4695-4361-9BA3-26526EF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A61-9962-4E08-A777-346A0CE7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1BE-5B18-448C-B39D-C9EAE603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E7D-7762-4621-B538-7DBA7D7C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AB8-9E57-4349-8C17-D09D038B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7CA-1D33-4235-BD69-7F24586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93C-F251-438B-9D31-55A3E83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A32-2CF1-4A8D-83E3-97627106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1C9-50F9-46A8-9941-8E1B501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4FA-69C9-4878-9D4B-34FA361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580-8B8F-4857-AB5B-6CF3A4AB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EF25-7EE9-410D-AF52-2F36764F2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