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483481"/>
        <c:axId val="45522457"/>
      </c:barChart>
      <c:catAx>
        <c:axId val="274834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522457"/>
        <c:crosses val="autoZero"/>
        <c:auto val="1"/>
        <c:lblAlgn val="ctr"/>
        <c:lblOffset val="100"/>
        <c:noMultiLvlLbl val="0"/>
      </c:catAx>
      <c:valAx>
        <c:axId val="455224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4834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63B9-0164-49F8-8FDD-D8B023A0B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23B8-1BDF-43A3-8697-E87BDBE66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A3BC-668F-4A38-A50D-0AA4B4591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38BE-B648-4E19-8261-FF7DC01F8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2203-ADA5-4609-8B0C-70296B3BC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0A7A-CADE-49E5-BCBC-002EDDCA5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975E-2E24-4E82-A035-8D3888272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7CDC-F007-4570-9FA7-C365E1210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D140-7D81-417F-9595-06FE5993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89FE-F826-4224-97A0-8D76A3F8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A076-2EDB-4787-963D-DEB4E99D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D6B7-95CC-4F39-A5BE-2530BF03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B7150A-D83A-47C2-A7DA-26BFE9C2143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