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36663"/>
        <c:axId val="6948817"/>
      </c:barChart>
      <c:catAx>
        <c:axId val="21236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8817"/>
        <c:crosses val="autoZero"/>
        <c:auto val="1"/>
        <c:lblAlgn val="ctr"/>
        <c:lblOffset val="100"/>
        <c:noMultiLvlLbl val="0"/>
      </c:catAx>
      <c:valAx>
        <c:axId val="6948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6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A93-8B0C-43A7-8BEB-FB5B7278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075-F3F6-4B79-842A-41D3D7E0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BD2-DE2F-49C2-9C85-918F22D5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A98-557C-4B2C-BA9E-F1569EB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FB2-AB86-4AF4-8E53-A046FD17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46B-D5FA-42AD-950B-6A5B265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E2A-78C2-4B02-B935-01FEDC65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E16-BA81-4A27-870E-79D4A13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3C9-400F-466F-93C9-E61462D2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FE3-71FC-4614-8EF9-D3FD01B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646-7AD9-4FD2-A765-F3966B5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A81-D331-4B31-ADE9-8E4889A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E165B-9993-4E72-91D3-2B3F5678D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