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31531"/>
        <c:axId val="13476099"/>
      </c:barChart>
      <c:catAx>
        <c:axId val="57731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76099"/>
        <c:crosses val="autoZero"/>
        <c:auto val="1"/>
        <c:lblAlgn val="ctr"/>
        <c:lblOffset val="100"/>
        <c:noMultiLvlLbl val="0"/>
      </c:catAx>
      <c:valAx>
        <c:axId val="13476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31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80BF-B957-4D83-8327-BFA4321D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A50-07C5-41E6-8EB3-F62E7C78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9AF-E1F6-4B31-8D96-2C98B8A6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48F-FBA8-4DDF-ABD5-32F49A6A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883-B392-4E7C-9725-50DC6234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47E-B0CC-4D5A-B795-50C9083C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BFF-E096-4F2F-8B83-F0E43395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9EA-95B1-4DFA-AB2C-1F835ECD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FE5-633B-491B-8358-E386F512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04D-70F6-4AA2-B80D-DEB14073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71B-087A-4546-8250-D11ADB7A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C9C-9B0D-4658-AFC8-CC8DFE42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0D71D-0BC0-4D60-A53C-E0D30A5EF5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