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13238"/>
        <c:axId val="94019079"/>
      </c:barChart>
      <c:catAx>
        <c:axId val="610132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19079"/>
        <c:crosses val="autoZero"/>
        <c:auto val="1"/>
        <c:lblAlgn val="ctr"/>
        <c:lblOffset val="100"/>
        <c:noMultiLvlLbl val="0"/>
      </c:catAx>
      <c:valAx>
        <c:axId val="940190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132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C15-1F06-4E8D-830E-FC1A7B77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3EB-3F6D-4963-ACE0-DF3AFC76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225-C7A2-42C2-98E5-47893B01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F7A-F052-45FF-8830-3A261E67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828C-5931-428F-A95B-AE205B38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6CA-86FF-444E-A244-25B96982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8C76-8CD3-4EBC-A3C7-F3F0F6EF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554-D504-4540-B20B-85EBC971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CF8-FD79-4A4F-B50A-B7EBF6A3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A37-E834-43CB-83A9-95DDBA2E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733-C779-4973-B5EB-FF173214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230-B2F1-48D7-B690-4315AEF8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0F1FB-824A-4349-85AB-CA4F6A4410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