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984EB0-D1D0-48A4-B9FB-446D525B3C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F190B0-2726-4CDD-9F34-D5A15760EF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9AA102-A9AE-4EE3-AF65-8DE6F47E4C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8B8F70-8CB2-4AFD-9868-AC57E99C8E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375C541-7446-4AA4-9669-665B43B4FAF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CFAD07-E869-488A-A060-5B65E8EE0A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E7BDE9-04C2-40BB-9849-5BEC5A9251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23A268-87B1-42D5-9435-048CD1DE10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E046B3-96E9-49D1-A311-01B47BD818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429202-AC16-4412-9E2A-DFC25398C5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40B679-B1D1-4F62-BC32-1670137A8E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E2E75E-5FD9-46FD-BF02-48E72CE9B5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94F8C5-6DBA-4EE4-9C2E-DDE667FA6A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1D877C-7754-4230-BB06-C140D9392F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B3FD5A-56F3-412E-8500-7223140AFC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A3496F2-3CBF-4A4D-A558-C6703EB16DC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50117C1-7A11-43C0-82F7-C736612FF2B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E6AFDC-2094-4E84-9F38-582825A6DA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54BA4E-8010-4BD0-A165-0935BC87B4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6E7A97-A1E9-4420-9A01-19F3CE03C9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725D18-FD60-4E42-A155-A658B71817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018767-C4C1-47E1-B128-2557F34380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9435D1-D191-4555-A4F8-165C4321A3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9247A9-318E-4BD2-8E2F-82F139FF37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14C414-1B36-4FD1-973E-E6E6A2A3C4F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B8F1F8-5BF9-43D3-B103-21C23EF1A4B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D1EEDE8-B3BB-4B30-AE79-7EF9A5B7C86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150C168-177F-40C0-ACBA-F58CBF0163BF}"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A111BB-B04A-417A-BFFD-5930EC3A9509}"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71F564-FA41-42EA-B7FE-DE68E3D05A59}"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5762A4-7376-4ACA-929C-820C73CC0B4F}"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CDFAEA-3C19-4B79-9477-C37A14C3843B}"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F594C7-7989-4164-81E2-9BDF844C3491}"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51B155-3A7D-4681-A57A-801E27455D24}"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C208D6-E8DA-4CFF-B2D7-C9D46BBC8B50}"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CBAD1A-A7D2-48DF-B118-482064B87619}"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E3D021-835C-434F-A8CC-DDC47F6BD847}"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0BE692-B628-4983-ADEF-0C2D0A55316D}"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9D3F67-F9A1-4A11-8CF8-94EA85574161}"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BBE7CF-95A9-47FB-B128-7A84BDC35BA2}"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61F291-6BF0-4488-A8A0-8891B2CF992C}"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000602-3A7B-4996-98E0-B9C4A1BEC665}"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F4514F-FA41-41E8-9A84-97921A3D3A62}"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C77DAC-CA98-44E8-9690-968B53CB9FDF}"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897271-EA61-4541-A0DF-CC5E5B51A897}"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D9F787-E1A2-4F9B-A7D3-C53E80C751F6}"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323D20-3B1C-480B-BAA2-1D2249420687}"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5B592C-526C-4691-B807-32E36D9DC174}"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A416F0-3BAE-40B4-85F4-27B090977A37}"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F74E47-6956-4F3D-ACBD-786E014A85E8}"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E3211C-0B99-419F-8C3A-A1523C4D2A3F}"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0C9F7B-C6F8-4DDC-BF09-F3337CC9F158}"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71BFE0-AD64-459C-A46F-BC6BCDECF290}"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7846DAB-6E5C-4994-ACE1-C359E236F594}"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90CE83-791F-4D0C-B824-F3C02DC8DA4F}"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980BB8-C163-4A32-9C65-0212BF373515}"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A9B646-5E50-44A8-AE60-82461E62E8A2}"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1AF99F-3219-4871-9E79-AAE49D3F8325}"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E607DC-4D03-4718-901E-A7FB4F9C8DF5}"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7C5F5B-262B-438E-B6A5-505738C4D22D}"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B3E717-E158-4A49-A9C8-645031C643A4}"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3A9EAA-718E-43B9-920D-AB1C1A061AEC}"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515493-5CB2-4A94-892E-B56E109F3576}"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6CA542-C571-4C4A-B9FB-3C30C47D17AE}"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1B9281-4C8D-4628-9DAB-3D2219BC1101}"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B768DB-2171-4664-9066-DC70F1587220}"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C104C5-EF78-430A-8881-97266803F21E}"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7D14C1-887A-4C5B-B2BE-42C933A09870}"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0A1D3F-9C17-4787-BA4D-3C412ED3DA23}"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70AB54-2BAF-4AE2-8141-71BEAB9C0F90}"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B23BA6-4E39-44CD-B4F6-B5E63CF7F404}"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EC6339-DE6C-4081-9268-ECA1053A28BF}"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A24D23-ED65-4C9A-8BA8-9CD2563B10A2}"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D2E8E9-78A2-4691-A7AA-1E1E29B7FF74}"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8456E7F-C1A8-4E9C-8B1C-8F7E585ED086}"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95A4E9-B3B9-4326-B928-323552EA6411}"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63CDCB-CE52-442A-BAA8-C606DF801213}"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792B629-9C89-43D4-890E-F98D371F9F5D}"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D6940C-1D1F-481C-8B24-F5B056100142}"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E31B15-C337-47C6-8492-F76C379DC219}"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767BB3-4A91-4F13-8412-9039CAB3B4A2}"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ADA0D8-DF18-425F-9F66-C9E008798045}"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91CBEC-C365-46A3-9D45-A2A0ED1ED875}"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301E1A-8F03-4E17-A5C2-063CF87C74C7}"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2535EC-80D3-4B61-BF70-8B6C98B864E0}"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7C95A43-5964-4F2F-BFBD-048CF794445B}"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982043-CC76-4131-8E8C-0A1FC0042469}"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FD5E7D-982B-4227-9755-01B00BED8FCE}"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6795C4-44FF-46CD-8E7F-528AC326572A}"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913BD1-5800-4339-8E9C-BCA253E83A0D}"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3E9685-ED67-4E3B-A5DA-62601E4C275F}"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EFF9A8E-581E-4017-A9DD-14738DABCE60}"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97E1A8-BC7C-4B54-B7EE-63818D93485E}"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C37F8B-5B08-4655-A408-82AC9173D726}"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5A2BD4-1DF4-4643-BAA3-0220D895381D}"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C2EB72-0206-4712-ACE2-030E162D6BC9}"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AE7B286-2E49-4C39-AB32-BEE90E8B97F5}"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AAE939-A013-4075-870B-74B145D2CD49}"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FF8F0D-3F3F-4CA7-8485-5A258E729B1B}"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D17E91-3013-4B36-927F-E4FD7FE3E6AE}"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918681-8141-4031-B7F3-971174026816}"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5BCCC2-1E2D-4A83-82ED-8F16BA50ED7B}"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789B3B-F98D-4138-B16C-BBC505985F45}"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595BE83-FF8A-49EF-9239-B38835862277}"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B68A09-C426-4867-89BC-C586DFA821FB}"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A08ECC-6B2F-4DE5-AD2B-ACD142B5BFA0}"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0ADB6D-9A95-422E-9CC3-3F0699E46909}"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D1B84C1-F30C-4627-860E-D5B3AD6E837E}"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A94DBD-996A-4089-97AF-6626C0E38C0E}"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D7499D8-A051-41C9-A5D6-5EACB646E59F}"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E05DBD-F07E-4A54-8AFF-2C2434C9268C}"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226E65-241F-44FC-92F8-804D08881727}"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96CDA1-5896-4D73-9706-AD71E5E0C31E}"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F2737C-5F6F-4FF1-B493-D71C2546BD5D}"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359B8C-C70E-485E-B5EF-D18DBCA37F38}"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F6D6A7-48C9-4214-96EA-27057BCC20A6}"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BF9F66-77B3-43FA-A560-488ECD5ADE17}"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F8C78C-F4AA-41AF-8997-089D99E78088}"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28EAA8-0C58-44FC-A059-F8F83696731E}"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2CBFF9-0B9F-4555-BA75-2373CD45E471}"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3C8E66-464B-40E4-BF83-B8C72672FB05}"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F2807B-54C0-46CE-A600-6A9F66EF459F}"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B57858-536E-4956-B475-00F36193675C}"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5D686D-BBF4-47D7-AC84-7C185F4F2049}"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9BB61A-E77A-466D-8D0F-95E90460D69C}"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38BFB7E-C798-4D85-8F39-6DAEA9DAE00C}"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256D18-8F3D-4ADD-80A2-DD4CF4F3CF48}"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BE31D5-957A-476C-9D41-5D36C619DA39}"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51A53A-149E-44AE-9927-914AF5B8496A}"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3BEDC2-DCEA-4F3D-8D01-F2425C4AB6DC}"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FA43D1-383E-4B13-A09D-4BF4E331E180}"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B627FB-E5F1-41CC-B760-1091609187F2}"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40F1FA-7943-4ACB-A520-E291C1EA4534}"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9C57BD-4880-41E0-ABB9-8B4C0A16F030}"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BC26A6-2294-4535-90E7-4E8ED9D40C2B}"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5BE856-D1EF-4C52-A840-49F68DF3A00B}"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329BEA-559D-44A2-BEB0-29E5DA3987CB}"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04DFD0-A1A4-4C19-8C0F-762C5DE0043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2DB7AE-9873-4D91-B1F5-2870078D6C23}"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8BB92F-C05C-49F0-9630-0B4607DB3362}"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6FA951-EB82-4F74-911D-FC070D568A1A}"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A5A91B-7D1E-499E-8450-4EFE8C25F08C}"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4D9B30-B30B-477C-AD32-16DC0F9458C3}"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36CEBB-22D5-45C9-9FA2-C07D7006C43B}"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AD5844-40EE-48BB-913B-F53711BEF66C}"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C6290A-6EC5-4C8F-BD6E-328D7DDFB139}"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3B8368-B87B-4E36-A3B1-F6A01EE4A1D7}"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7C801E-40C3-48C6-BEAD-4778DE464238}"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06BAD2-B56C-4F61-9EE9-BC8F2AC68D6F}"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5427FA-AA0B-47A4-B5E4-07BA462BE51C}"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2DD631-161C-4410-8B39-2AE693395007}"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5D14E5-A7F2-4A3E-9DBD-EE5D6F0968D5}"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4227B4-F846-4384-99B4-1A9EF4500EDF}"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4255F1D-5A65-440B-9121-D8FF8D45140D}"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3B3F56-ADB5-4251-9756-F1E15BCEC1D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EDDC56-37B6-46FF-8FFE-7F73AA7F4CC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4C3483-6C4F-4EF5-B5B6-9F631005B65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0600BB-51D8-4D87-ACD4-1B37256DA6E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C004F3-7653-4030-BE43-82356C5707D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1BFF12-EAEB-4B03-98E8-8C8E8BA5FD6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251A614-3CBD-4EF7-ABEF-35152D71C34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97EB9A-2BAE-48CC-9F0B-427D925B16E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42187C-C1FD-48FF-98A2-36922DB5184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C4D810-DD77-4692-93ED-6BE59D54A64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23DA70-F492-4A1A-8816-65587CDA9A8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6C664A-5AB6-495C-93B9-87FF927320E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F184F4-E98E-4B62-84F9-C733C4948D3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3676C1-86DC-422A-ADF8-4166E2AB35A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C03AE8-0065-4FF3-A1BF-0806F229E39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E9C0D7-CC47-4972-8B12-C0506C02ED4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15786E-54E6-4DF9-814C-C1B1DF8B052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8B8A9D-279D-451B-8E22-0217A31DC45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230B90-8097-4489-832D-BA45A76A3AA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0D40A8-8A5E-42D3-B7DE-5E8003D0B38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183A10-0D34-4D1A-A009-5392F0F38E6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83956D-9AEB-49BA-9954-B04D5C756BB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024FA6-DA3A-4116-A0F6-CD4DD0DB22F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45434F-6636-43B0-B58C-42F553BFC03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BD73AD-228E-4D6F-A6F9-49A055E5D4E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9BE90D-AA3C-46AA-ACF8-E96F7991A0B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63F6A5-9AE8-45DC-A28C-85CE0ADD4D2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D4F2C8-A129-48AF-B40E-60D82640789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B897C7-7672-40C5-B452-06E7EDF3F6A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E1BBE6-D1C2-4E96-B75D-7F0069EEE64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E44BA9-8FDE-4CAE-ADC8-C9CEFEDE87E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12AA5E-02DD-4756-9C65-0702582885E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EAFF8B-7C6C-4BA3-A71B-ADC09769152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5DF8F5-8B51-4F29-BF8B-E966EA047A2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36312A-B0A9-4747-8CC4-D89FA2FA531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C6BC92-86B5-42A9-B45C-F11078906C1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6CD9C9-22C1-42B4-8345-499477D4D97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CC5E0A-3EA9-4291-AB56-6A5F74C79562}"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93EA52-776C-4745-96B1-0AF82E6542FB}"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B7CFBC-E265-4892-94DA-86DE394C47F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4F0D8E-CC0C-4E34-A1B8-EC545FC2360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C02B8B-C542-482C-B919-08BF88B34CB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F87C3E-FB9A-4941-90E4-8FCDCDB53A9C}"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2D9762-C97E-4E11-9CA8-611935A3EDA5}"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26B1A3-AF24-4E56-89CC-0485A5A949B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36B94C-CB6E-48AD-A2A0-4C86A13BD57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6330EB-D437-4883-AE34-8090869B1CC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5DC026C-4D6C-498D-AB61-5A7CD379616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1D64AC-CE0D-41FF-8CDE-5A68BBFDDE34}"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5BC98B-7872-42C9-B9B7-E4E53117BB00}"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C3FAAE-2349-4930-85CA-62F999A5B02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7E3639-E271-47F2-9FD1-8A1FA96C8129}"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AFB683-F168-44CA-9637-63E7CFF42CFA}"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AC2666-B0CF-4A8F-8356-167C114BCBA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85AA54-A263-40F7-9674-A40866A4B37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B5D814-D7A0-474B-AD67-B289756CB93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B3125E3-F2AB-4839-AAE8-9D9E912FEF7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BAD14D-F9C7-47B1-A30D-59CA2FFE30A5}"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ADA47D-C019-45BD-8A94-9CEFBA6D222E}"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CCD68D-4A66-488F-8725-644EF3094F2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F9B890-9E61-4D3A-9CFA-2D574074BAF8}"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2E5195-F54E-4DE6-A1F2-52E40018217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8E0523-8FBD-46C0-AC64-DBDE67F3D6E4}"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EBA1E0-5D59-45D9-AF9E-12199D767110}"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952B99-1F53-4B83-A0B4-79B223E4C97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1945AB-56E4-49B0-8332-959426E9FF3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9E3291-3CE3-4F65-A49D-CF3F3882F765}"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737A45-8140-4DDC-A836-E1A0FD243217}"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7AD67F-CD9D-4D80-9265-D54AF27C9E13}"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3AA346-9133-4B09-9F35-8459F17FE7A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92B993-C824-4208-B30C-37D6272B1C3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49AEE73-D759-4A42-85AC-6535B842F83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338C01-2EC8-46BC-85DA-35B178F7EBB2}"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583578-53F9-4236-9CC8-050129C32AEE}"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6C442A-BC90-42FC-9335-BCB72D15721E}"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A2FCF0-4898-4442-97A3-CB5B6B8DC695}"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7360E3-3CC7-4499-BCB3-E912C207EFB0}"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3EEEE8-9327-4906-954B-368B73E99223}"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4548E7-EB8D-4909-B9CA-F100F7DE38A6}"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E62229-C125-4C22-95B4-BD77F22EEA1A}"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DCBAE9-2272-4C63-ACFD-121798DCC7D5}"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6E6117-8576-4A65-80A5-90D3EF5C430F}"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9F741F-E159-4AD9-9D1A-171AF5F908A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15602C-FCA2-4D3F-88FE-A88E2440F46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D1D1A3-BF4F-41AF-A54F-22E8852B74B2}"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